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A3CC-C1ED-43C8-A289-CA2111C3E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56FB-2EA5-4EC7-A6EB-F8631074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5299-81D1-463B-9CB0-049F227AF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4DB1-CBFD-4E40-89C8-C4D87136E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9C30-3A8E-4F76-9CD1-AF719068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404C-053C-4A7E-BFA4-0C7E6737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5038-A45D-446B-885E-37808DE8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C78F-828C-4C42-A4B8-A22E287C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7DEA-3170-4789-8380-FA71935A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AA36-1AF7-4930-91E6-066D6B9D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DFDE-B5FE-4122-AFED-6DE24B6C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6D6F-C7B3-449B-9304-AC90FBB5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C228-99EF-4D3A-B7EB-A686BB3CE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trackies.co.uk/nike/tracksuits/tracksuit7.jpg&amp;imgrefurl=http://www.trackies.co.uk/nike/tracksuits/tracksuit7.htm&amp;h=600&amp;w=430&amp;sz=35&amp;hl=en&amp;start=3&amp;sig2=jyJ5uKxW7cG10xKI9x8-kA&amp;um=1&amp;usg=__V2g3ZKyNj2wQJrfEzwDcwr0PjnY=&amp;tbnid=nFprrGy5ILK6_M:&amp;tbnh=135&amp;tbnw=97&amp;ei=F1f4SLfBNY2SxAGdmOXBDg&amp;prev=/images%3Fq%3Dtracksuit%26um%3D1%26hl%3Den%26rlz%3D1T4GGIH_en-GBGB261GB261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981000"/>
            <a:ext cx="8424720" cy="3949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you come in, take out your school uniform descriptions from last les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ke 3 post-its from the front, and read other descri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write 2 comments saying what that person has done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nd 1 saying what they could improve e.g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re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b te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l of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n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5084640"/>
            <a:ext cx="88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con tacones alt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348000" y="1052640"/>
            <a:ext cx="2533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11280" y="549360"/>
            <a:ext cx="5256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de) algo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ó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of) co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de) cuer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of) l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de) vaquer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of) den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4000" y="1125360"/>
            <a:ext cx="842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levamos    azules    cómodo    hay    invierno    llevo    mi    que    sudadera    vaquera  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________ instituto n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iforme, menos mal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 que queremos. Normalmen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quero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una camiseta. Durante e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levo un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 capucha o una chaquet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Llevo zapatillas deportivas. Es mucho má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práctic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levar unifor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692280"/>
            <a:ext cx="8569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dón    amarilla    anchos    barata    caras    chaqueta       cuero    que  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Los zapatillas de deporte son más  ____________que las zapatos de cuero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La camiset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 más ____________ que la camiseta roj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_____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quera es más barata que el abrigo de ____________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Los pantalones son más ____________ que los vaqueros azul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La camisa de ____________ es más bonita ____________ la blusa neg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16000" y="1700280"/>
            <a:ext cx="6985080" cy="28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be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type up a description of your OWN school uniform and your ideal school uni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be e-mailed to Mrfulleredgehill@yahoo.co.uk by Friday 31s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11280" y="260280"/>
            <a:ext cx="8208720" cy="67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La canci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ón &lt;&lt;Camisa negra&gt;&gt; de Ju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lu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u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l alm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sou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or culpa d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fault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e due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urts 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u mentir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r 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leno de dol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ull of 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sde q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ince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erdí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 l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ierd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 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baj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ndern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l difunt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c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1557360"/>
            <a:ext cx="849780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1) to listen to a song by Juan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2) To try to work out what the song’s abou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3) To learn 6 further items of cloth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4) To learn 3 material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5) To complete 2 gap-fill exercises on unifor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6) To describe your ideal uniform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58920" y="5084640"/>
            <a:ext cx="648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un ch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  <a:ea typeface="Arial"/>
              </a:rPr>
              <a:t>ánda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32000" y="549360"/>
            <a:ext cx="28926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58920" y="5084640"/>
            <a:ext cx="648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un abrig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68360" y="880920"/>
            <a:ext cx="42483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58920" y="5084640"/>
            <a:ext cx="727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una sudader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87640" y="1004760"/>
            <a:ext cx="36003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58920" y="5084640"/>
            <a:ext cx="727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con capuch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95640" y="189000"/>
            <a:ext cx="458136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58920" y="5084640"/>
            <a:ext cx="648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una camiset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Make your own Green is the New Black T-shirt"/>
          <p:cNvPicPr/>
          <p:nvPr/>
        </p:nvPicPr>
        <p:blipFill>
          <a:blip r:embed="rId1"/>
          <a:stretch/>
        </p:blipFill>
        <p:spPr>
          <a:xfrm>
            <a:off x="2700360" y="1095480"/>
            <a:ext cx="395928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58920" y="5084640"/>
            <a:ext cx="648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unas bot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christian louboutin boots"/>
          <p:cNvPicPr/>
          <p:nvPr/>
        </p:nvPicPr>
        <p:blipFill>
          <a:blip r:embed="rId1"/>
          <a:stretch/>
        </p:blipFill>
        <p:spPr>
          <a:xfrm>
            <a:off x="1971720" y="552600"/>
            <a:ext cx="435780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9:01:44Z</dcterms:created>
  <dc:creator>Owner1</dc:creator>
  <dc:description/>
  <dc:language>en-US</dc:language>
  <cp:lastModifiedBy>Owner1</cp:lastModifiedBy>
  <dcterms:modified xsi:type="dcterms:W3CDTF">2008-10-28T08:30:12Z</dcterms:modified>
  <cp:revision>3</cp:revision>
  <dc:subject/>
  <dc:title>Slide 1</dc:title>
</cp:coreProperties>
</file>